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809C-F006-4979-A5E4-7C3475EC317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κατάρα των φυσικών πόρων (resource curse) αναφέρεται στη χαμηλή οικονομική ανάπτυξη σε χώρες με μεγάλο πλούτο σε φυσικούς πόρους, όπως το πετρέλαιο, το φυσικό αέριο και τα σπάνια μεταλλεύματ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B45D-4FA8-4C50-82EF-D60831540B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κράτος-εισοδηματίας (rentier state) αντλεί το μεγαλύτερο μέρος των εσόδων του από την εξαγωγή φυσικών πόρων, όπως το πετρέλαιο και το φυσικό αέριο, χωρίς το ίδιο να προσθέτει αξία σε αυτά τα εμπορεύματα.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AAEC-F8B0-4BDD-941B-420595B0189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η οικονομία συνήθως βασίζεται στους κανόνες της αγοράς, ωστόσο τον επικυρίαρχο ρόλο διατηρεί το κρά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λειτουργία της αγοράς είναι πιο αυθαίρετη και λιγότερο αποτελεσματική σε σχέση με τις φιλελεύθερες δημοκρατίες, όπου ένα δίκτυο θεσμών, που αναπτύχθηκε σε βάθος γενεών, παρέχει πιο σταθερό και αξιόπιστο πλαίσιο για την άσκηση της επιχειρηματικότητ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835C-FAD2-44D1-BF39-7884EADA75C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82E7-7F02-4923-8ED4-D64EA40783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φράση πολιτική οικονομία (political economy) προέρχεται από τη Γαλλία του 17ου αιώνα, όπου αναφερόταν στη χρηματοοικονομική διαχείριση του βασιλικού οίκου. Σήμερα, ο όρος αναφέρεται σε ζητήματα που βρίσκονται στο σημείο τομής της πολιτικής και της οικονομίας, με ιδιαίτερη έμφαση στη βελτίωση των οικονομικών επιδόσεων μιας χώρας.</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Smith, Keynes και Friedman ανέλυσαν τα οικονομικά προβλήματα με σαφή προσανατολισμό στην πολιτική και τις εφαρμοζόμενες πολιτικές. Οι ιδέες τους έχουν ασκήσει μεγάλη επιρροή, παρότι διατυπώθηκαν ως απάντηση στις συνθήκες και τις προκλήσεις της εποχής τους. </a:t>
            </a:r>
            <a:endParaRPr b="0" lang="en-US" sz="1200" spc="-1" strike="noStrike">
              <a:solidFill>
                <a:srgbClr val="000000"/>
              </a:solidFill>
              <a:latin typeface="Arial"/>
            </a:endParaRPr>
          </a:p>
        </p:txBody>
      </p:sp>
      <p:sp>
        <p:nvSpPr>
          <p:cNvPr id="13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4199-5982-4CB3-922D-D2E89C50A72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 </a:t>
            </a:r>
            <a:r>
              <a:rPr b="0" lang="el-GR" sz="1100" spc="-1" strike="noStrike">
                <a:solidFill>
                  <a:srgbClr val="000000"/>
                </a:solidFill>
                <a:latin typeface="Arial"/>
              </a:rPr>
              <a:t>Στις φιλελεύθερες οικονομίες της αγοράς, οι συμβάσεις αποτελούν τον επιχειρηματικό κανόνα, είτε πρόκειται για την πώληση προϊόντων και την παροχή υπηρεσιών, είτε για την απασχόληση εργατικού δυναμικού ή την εξασφάλιση χρηματοδότησης. Ανταγωνιστικές επιχειρήσεις λειτουργούν σε μια ευέλικτη αγορά εργασίας, επιδιώκοντας την αύξηση της κερδοφορίας τους, προκειμένου να ικανοποιήσουν την απαίτηση των μετόχων τους για υψηλές αποδόσεις του κεφαλαίου τους. Η κυβέρνηση και η δικαστική εξουσία στοχεύουν στη διασφάλιση ότι τα συμβόλαια τιμούνται και οι διαφορές επιλύονται, ωστόσο ο ρόλος τους είναι αυτός του επιδιαιτητή και του παρόχου ενός αντικειμενικού ρυθμιστικού πλαισίου, και όχι του ενεργού δρώντος.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Σε αντίθεση με τις φιλελεύθερες οικονομίες της αγοράς, οι πολιτικές οικονομίες στις περισσότερες χώρες της ηπειρωτικής Ευρώπης έχουν λιγότερο επιθετικό χαρακτήρα. Εδώ, οι επιχειρηματικές σχέσεις είναι λιγότερο απρόσωπες και συμβατικές και περισσότερο μακροχρόνιες ή ακόμα και οικογενειακού χαρακτήρα. Μια επιχείρηση είναι πιθανότερο να αντλήσει κεφάλαια από την τράπεζα με την οποία συνεργάζεται παρά από την απρόσωπη κεφαλαιαγορά. Στο μοντέλο της συντονισμένης οικονομίας της αγοράς, ο ιδιωτικός τομέας εκλαμβάνεται λιγότερο ως ανεξάρτητη σφαίρα και περισσότερο ως πεδίο που υπόκειται στον έλεγχο κοινωνικών και πολιτικών δυνάμεων, συμπεριλαμβανομένης της κυβέρνησης.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ο αναπτυξιακό κράτος (developmental state) επιτρέπει τη ραγδαία εκβιομηχάνιση μιας χώρας, συνδυάζοντας μια ισχυρή γραφειοκρατία, η οποία θέτει οικονομικούς στόχους σε εθνικό επίπεδο, με την ατομική ιδιοκτησία των μέσων παραγωγής. Τα κύρια παραδείγματα είναι κράτη της Ανατολικής Ασίας, όπως η Ιαπωνία και η Κορέα κατά τις μεταπολεμικές δεκαετίες.</a:t>
            </a:r>
            <a:endParaRPr b="0" lang="en-US" sz="1100" spc="-1" strike="noStrike">
              <a:solidFill>
                <a:srgbClr val="000000"/>
              </a:solidFill>
              <a:latin typeface="Arial"/>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8590-CB8B-4C19-B63F-10E0679F976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καπιταλισμό των μετόχων (shareholder capitalism), οι ιδιοκτήτες της επιχείρησης επιδιώκουν τη μεγιστοποίηση της οικονομικής απόδοσης της επένδυσής τους και είναι ανά πάσα στιγμή έτοιμοι να αντικαταστήσουν τα στελέχη που δεν εξυπηρετούν αυτό το στόχο. Αυτή η μορφή καπιταλισμού συναντάται σε φιλελεύθερες οικονομίες της αγοράς, όπως οι ΗΠ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BA1C-036F-4CDE-B712-677DAC16D33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καπιταλισμό των κοινωνικών εταίρων (stakeholder capitalism), οι επιχειρήσεις αναγνωρίζουν -και συχνά λαμβάνουν υπόψη κατά τη χάραξη της στρατηγικής τους- ένα πλήθος συμφερόντων, συμπεριλαμβανομένων των εργαζομένων, των συνδικάτων, της τοπικής κοινότητας και της κυβέρνησης. Το μοντέλο αυτό το συναντάμε σε συντονισμένες οικονομίες της αγοράς, όπως η Γερμανία.</a:t>
            </a:r>
            <a:endParaRPr b="0" lang="en-US" sz="1200" spc="-1" strike="noStrike">
              <a:solidFill>
                <a:srgbClr val="000000"/>
              </a:solidFill>
              <a:latin typeface="Arial"/>
            </a:endParaRPr>
          </a:p>
        </p:txBody>
      </p:sp>
      <p:sp>
        <p:nvSpPr>
          <p:cNvPr id="14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1F36-F2E2-459E-947E-E88F1CE5A3F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ύμφωνα με την υπόθεση της σύγκλισης (convergence thesis), όλες οι αναπτυγμένες οικονομίες τείνουν προς την εφαρμογή του ίδιου οικονομικού μοντέλου, καθώς το παγκοσμιοποιημένο περιβάλλον απαιτεί μια φιλελεύθερη και φιλική προς τις αγορές προσέγγιση.</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0AB5-B53C-4E66-A9F2-26C5734B033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σφαλώς μπορούν να βρεθούν επιχειρήματα υπέρ της θέσης ότι η απολυταρχική εξουσία διευκολύνει τους σκοπούς της ανάπτυξης. Η εκβιομηχάνιση προϋποθέτει μαζικές επενδύσεις σε υποδομές, όπως οι μεταφορές, οι επικοινωνίες και η εκπαίδευση, που μπορούν να χρηματοδοτηθούν μόνο από το κράτος. Οι απολυταρχικοί ηγέτες μπορούν επιπλέον να εξασφαλίσουν πλεονάσματα προς επένδυση, αντιστεκόμενοι στις βραχυπρόθεσμες εκλογικές πιέσεις άμεσης ενίσχυσης της κατανάλω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αυτούς τους παράγοντες κατά νου, οι Huntington και Nelson συμπέραναν ότι «η πολιτική συμμετοχή πρέπει να διατηρηθεί σε χαμηλά επίπεδα, τουλάχιστον προσωρινά, προκειμένου να προωθηθεί η οικονομική ανάπτυξη». Πρώτα ανάπτυξη, μετά δημοκρατί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γενικές γραμμές, αυτοί οι θεωρητικοί ισχυρισμοί σπάνια δικαιώνονται από την πραγματικότητα. Μια στατιστική μελέτη των Przeworski κ.ά.  κατέληξε στο συμπέρασμα ότι «είναι ψευδοδίλημμα η σκληρή επιλογή δημοκρατία ή ανάπτυξη: Δεν ανακαλύψαμε ούτε ίχνος απόδειξης ότι η δημοκρατία πρέπει να θυσιαστεί στο βωμό της ανάπτυξης». </a:t>
            </a:r>
            <a:endParaRPr b="0" lang="en-US" sz="1200" spc="-1" strike="noStrike">
              <a:solidFill>
                <a:srgbClr val="000000"/>
              </a:solidFill>
              <a:latin typeface="Arial"/>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699A-3CF3-42C8-AF61-D4466EE8917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κομμουνιστική, κεντρικά σχεδιασμένη οικονομία (command economy), που ονομάζεται επίσης οικονομία κεντρικού σχεδιασμού, η εθνική κυβέρνηση ορίζει ποσοστώσεις για τις μονάδες παραγωγής που ανήκουν στο κράτος και κατανέμει τους πόρους σε αυτές. Η γραφειοκρατία, στη συνέχεια, εκτελεί το σχέδιο της κυβέρ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3037-B432-4AD3-BB5D-5F2800630C6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38AA2-1274-4D8C-9D7A-099D71CFC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027B-34AA-4C29-998B-9AB50730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FC414-268A-4BD7-A88F-2B0949C07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1602E-2FF3-4F2F-8F7B-93A0585E6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C94BB-9FA6-45C3-BED7-4F01798AF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6BAFB-4CAA-42D3-A3EA-95E9D8FD5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3B382-FD51-46D0-AEF1-DF8C477F8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6F925-6FD1-43C8-8550-A70382427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53D54-D85C-4BB8-9038-D0AFABED1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93147-96DF-40F4-9004-E35AC04C2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F7FF0-3432-4C8E-9705-20086B46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83BD8-5D23-4B5A-93D9-84BA5E197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EF9D6-4BDD-485D-B38B-125B366AA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584B-0603-4016-A252-59F9D73DC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3F50-B08C-429A-8AFD-778548DEB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90E99-BF6C-415C-86FA-D4F1E849F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FB999-19AE-4510-BCA3-CA40F33E8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710A3-1E9A-4ABC-9EED-A013D4473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C2E3-EFC3-4BFD-91CF-B9CF3BD4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54EEF-D7D0-49DF-ABBB-BD896CA9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F065-5ADE-4E8B-AB0D-968735F7A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715C-E95A-414E-8B5D-24F35512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DF3F-91EF-4CA4-9537-D79ECFC0B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F5E8-BA26-4ACC-A1BA-4D06BD5D5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883B-E795-4E15-BA1E-82344C4CA80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B16C-25AE-444A-8D7A-FF08A9E6D55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9</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Πολιτική </a:t>
            </a:r>
            <a:r>
              <a:rPr b="0" lang="en-US" sz="2800" spc="-1" strike="noStrike">
                <a:solidFill>
                  <a:srgbClr val="000000"/>
                </a:solidFill>
                <a:latin typeface="Arial"/>
              </a:rPr>
              <a:t>o</a:t>
            </a:r>
            <a:r>
              <a:rPr b="0" lang="el-GR" sz="2800" spc="-1" strike="noStrike">
                <a:solidFill>
                  <a:srgbClr val="000000"/>
                </a:solidFill>
                <a:latin typeface="Arial"/>
              </a:rPr>
              <a:t>ικονομ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Άλλα απολυταρχικά κράτη</a:t>
            </a:r>
            <a:endParaRPr b="0" lang="en-US" sz="4200" spc="-1" strike="noStrike">
              <a:solidFill>
                <a:srgbClr val="660033"/>
              </a:solidFill>
              <a:latin typeface="Times New Roman"/>
            </a:endParaRPr>
          </a:p>
        </p:txBody>
      </p:sp>
      <p:sp>
        <p:nvSpPr>
          <p:cNvPr id="12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κατάρα των φυσικών πόρων (resource curse) αναφέρεται στη χαμηλή οικονομική ανάπτυξη σε χώρες με μεγάλο πλούτο σε φυσικούς πόρους, όπως το πετρέλαιο, το φυσικό αέριο και τα σπάνια μεταλλεύμα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Άλλα απολυταρχικά κράτη</a:t>
            </a:r>
            <a:endParaRPr b="0" lang="en-US" sz="4200" spc="-1" strike="noStrike">
              <a:solidFill>
                <a:srgbClr val="660033"/>
              </a:solidFill>
              <a:latin typeface="Times New Roman"/>
            </a:endParaRPr>
          </a:p>
        </p:txBody>
      </p:sp>
      <p:sp>
        <p:nvSpPr>
          <p:cNvPr id="12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ράτος-εισοδηματίας (rentier state) αντλεί το μεγαλύτερο μέρος των εσόδων του από την εξαγωγή φυσικών πόρων, όπως το πετρέλαιο και το φυσικό αέριο, χωρίς το ίδιο να προσθέτει αξία σε αυτά τα εμπορεύ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πολιτική οικονομία </a:t>
            </a:r>
            <a:br>
              <a:rPr sz="4000"/>
            </a:br>
            <a:r>
              <a:rPr b="0" lang="el-GR" sz="4000" spc="-1" strike="noStrike">
                <a:solidFill>
                  <a:srgbClr val="660033"/>
                </a:solidFill>
                <a:latin typeface="Times New Roman"/>
              </a:rPr>
              <a:t>στις ανελεύθερες δημοκρατίες</a:t>
            </a:r>
            <a:endParaRPr b="0" lang="en-US" sz="4000" spc="-1" strike="noStrike">
              <a:solidFill>
                <a:srgbClr val="660033"/>
              </a:solidFill>
              <a:latin typeface="Times New Roman"/>
            </a:endParaRPr>
          </a:p>
        </p:txBody>
      </p:sp>
      <p:sp>
        <p:nvSpPr>
          <p:cNvPr id="12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ικονομία βασίζεται στους κανόνες της αγοράς, ωστόσο τον επικυρίαρχο ρόλο διατηρεί το κράτο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υθαίρετη και λιγότερο αποτελεσματική λειτουργία της αγορά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φράση πολιτική οικονομία (political economy) προέρχεται από τη Γαλλία του 17ου αιώνα, όπου αναφερόταν στη χρηματοοικονομική διαχείριση του βασιλικού οίκου. Σήμερα, ο όρος αναφέρεται σε ζητήματα που βρίσκονται στο σημείο τομής της πολιτικής και της οικονομίας, με ιδιαίτερη έμφαση στη βελτίωση των οικονομικών επιδόσεων μιας χώρα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α θεμέλια</a:t>
            </a:r>
            <a:endParaRPr b="0" lang="en-US" sz="4200" spc="-1" strike="noStrike">
              <a:solidFill>
                <a:srgbClr val="660033"/>
              </a:solidFill>
              <a:latin typeface="Times New Roman"/>
            </a:endParaRPr>
          </a:p>
        </p:txBody>
      </p:sp>
      <p:pic>
        <p:nvPicPr>
          <p:cNvPr id="109" name="Picture 2" descr=""/>
          <p:cNvPicPr/>
          <p:nvPr/>
        </p:nvPicPr>
        <p:blipFill>
          <a:blip r:embed="rId1"/>
          <a:stretch/>
        </p:blipFill>
        <p:spPr>
          <a:xfrm>
            <a:off x="1279440" y="1600200"/>
            <a:ext cx="6175440" cy="507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φορετικά είδη καπιταλισμού</a:t>
            </a:r>
            <a:endParaRPr b="0" lang="en-US" sz="4200" spc="-1" strike="noStrike">
              <a:solidFill>
                <a:srgbClr val="660033"/>
              </a:solidFill>
              <a:latin typeface="Times New Roman"/>
            </a:endParaRPr>
          </a:p>
        </p:txBody>
      </p:sp>
      <p:sp>
        <p:nvSpPr>
          <p:cNvPr id="11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ιλελεύθερες οικονομίες της αγοράς (π.χ. ΗΠ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τονισμένες οικονομίες της αγοράς (π.χ. Γαλλ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πτυξιακό κράτος (π.χ. Ιαπων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Φιλελεύθερες οικονομίες της αγοράς</a:t>
            </a:r>
            <a:endParaRPr b="0" lang="en-US" sz="4000" spc="-1" strike="noStrike">
              <a:solidFill>
                <a:srgbClr val="660033"/>
              </a:solidFill>
              <a:latin typeface="Times New Roman"/>
            </a:endParaRPr>
          </a:p>
        </p:txBody>
      </p:sp>
      <p:sp>
        <p:nvSpPr>
          <p:cNvPr id="113"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ν καπιταλισμό των μετόχων (shareholder capitalism), οι ιδιοκτήτες της επιχείρησης επιδιώκουν τη μεγιστοποίηση της οικονομικής απόδοσης της επένδυσής τους και είναι ανά πάσα στιγμή έτοιμοι να αντικαταστήσουν τα στελέχη που δεν εξυπηρετούν αυτό το στόχο. Αυτή η μορφή καπιταλισμού συναντάται σε φιλελεύθερες οικονομίες της αγοράς, όπως οι ΗΠΑ.</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υντονισμένες οικονομίες </a:t>
            </a:r>
            <a:br>
              <a:rPr sz="4000"/>
            </a:br>
            <a:r>
              <a:rPr b="0" lang="el-GR" sz="4000" spc="-1" strike="noStrike">
                <a:solidFill>
                  <a:srgbClr val="660033"/>
                </a:solidFill>
                <a:latin typeface="Times New Roman"/>
              </a:rPr>
              <a:t>της αγοράς</a:t>
            </a:r>
            <a:endParaRPr b="0" lang="en-US" sz="4000" spc="-1" strike="noStrike">
              <a:solidFill>
                <a:srgbClr val="660033"/>
              </a:solidFill>
              <a:latin typeface="Times New Roman"/>
            </a:endParaRPr>
          </a:p>
        </p:txBody>
      </p:sp>
      <p:sp>
        <p:nvSpPr>
          <p:cNvPr id="115"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ν καπιταλισμό των κοινωνικών εταίρων (stakeholder capitalism), οι επιχειρήσεις αναγνωρίζουν -και συχνά λαμβάνουν υπόψη κατά τη χάραξη της στρατηγικής τους- ένα πλήθος συμφερόντων, συμπεριλαμβανομένων των εργαζομένων, των συνδικάτων, της τοπικής κοινότητας και της κυβέρνησης. Το μοντέλο αυτό το συναντάμε σε συντονισμένες οικονομίες της αγοράς, όπως η Γερμανία.</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ύγκλιση;</a:t>
            </a:r>
            <a:endParaRPr b="0" lang="en-US" sz="4200" spc="-1" strike="noStrike">
              <a:solidFill>
                <a:srgbClr val="660033"/>
              </a:solidFill>
              <a:latin typeface="Times New Roman"/>
            </a:endParaRPr>
          </a:p>
        </p:txBody>
      </p:sp>
      <p:sp>
        <p:nvSpPr>
          <p:cNvPr id="11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φωνα με την υπόθεση της σύγκλισης (convergence thesis), όλες οι αναπτυγμένες οικονομίες τείνουν προς την εφαρμογή του ίδιου οικονομικού μοντέλου, καθώς το παγκοσμιοποιημένο περιβάλλον απαιτεί μια φιλελεύθερη και φιλική προς τις αγορές προσέγγι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πολιτική οικονομί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19"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Huntington και Nelson (1976): η πολιτική συμμετοχή πρέπει να διατηρηθεί σε χαμηλά επίπεδα, τουλάχιστον προσωρινά, προκειμένου να προωθηθεί η οικονομική ανάπτυξη. </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Przeworski κ.ά. (2000): είναι ψευδοδίλημμα η σκληρή επιλογή δημοκρατία ή ανάπτυξη: Δεν ανακαλύψαμε ούτε ίχνος απόδειξης ότι η δημοκρατία πρέπει να θυσιαστεί στο βωμό της ανάπτυξης.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μμουνιστικά κράτη</a:t>
            </a:r>
            <a:endParaRPr b="0" lang="en-US" sz="4200" spc="-1" strike="noStrike">
              <a:solidFill>
                <a:srgbClr val="660033"/>
              </a:solidFill>
              <a:latin typeface="Times New Roman"/>
            </a:endParaRPr>
          </a:p>
        </p:txBody>
      </p:sp>
      <p:sp>
        <p:nvSpPr>
          <p:cNvPr id="121"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ε μια κομμουνιστική, κεντρικά σχεδιασμένη οικονομία (command economy), που ονομάζεται επίσης οικονομία κεντρικού σχεδιασμού, η εθνική κυβέρνηση ορίζει ποσοστώσεις για τις μονάδες παραγωγής που ανήκουν στο κράτος και κατανέμει τους πόρους σε αυτές. Η γραφειοκρατία, στη συνέχεια, εκτελεί το σχέδιο της κυβέρνηση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44:38Z</dcterms:created>
  <dc:creator>pc</dc:creator>
  <dc:description/>
  <dc:language>en-US</dc:language>
  <cp:lastModifiedBy>EPIMELEIA</cp:lastModifiedBy>
  <dcterms:modified xsi:type="dcterms:W3CDTF">2013-09-26T08:49:36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